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8.jpeg" ContentType="image/jpeg"/>
  <Override PartName="/ppt/media/image5.wmf" ContentType="image/x-wmf"/>
  <Override PartName="/ppt/media/image6.png" ContentType="image/png"/>
  <Override PartName="/ppt/media/image7.jpeg" ContentType="image/jpe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youtube.com/watch?v=z1gpnu-fdUU&amp;feature=related"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youtube.com/watch?v=z1gpnu-fdUU&amp;feature=related"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Review for Test</a:t>
            </a:r>
            <a:endParaRPr b="0" lang="en-US" sz="4400" spc="-1" strike="noStrike">
              <a:solidFill>
                <a:srgbClr val="000000"/>
              </a:solidFill>
              <a:latin typeface="Garamond"/>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et out important paper # 5 and a calculat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03" name="Picture 5" descr="mt_st_helens2">
            <a:hlinkClick r:id="rId1"/>
          </p:cNvPr>
          <p:cNvPicPr/>
          <p:nvPr/>
        </p:nvPicPr>
        <p:blipFill>
          <a:blip r:embed="rId2"/>
          <a:stretch/>
        </p:blipFill>
        <p:spPr>
          <a:xfrm>
            <a:off x="914400" y="685800"/>
            <a:ext cx="7162920" cy="477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05" name="Picture 5" descr="Mount St. Helens crater and dome"/>
          <p:cNvPicPr/>
          <p:nvPr/>
        </p:nvPicPr>
        <p:blipFill>
          <a:blip r:embed="rId1"/>
          <a:stretch/>
        </p:blipFill>
        <p:spPr>
          <a:xfrm>
            <a:off x="4495680" y="1219320"/>
            <a:ext cx="4191120" cy="2744640"/>
          </a:xfrm>
          <a:prstGeom prst="rect">
            <a:avLst/>
          </a:prstGeom>
          <a:ln w="0">
            <a:noFill/>
          </a:ln>
        </p:spPr>
      </p:pic>
      <p:pic>
        <p:nvPicPr>
          <p:cNvPr id="106" name="Picture 6" descr="mt_st_helens2">
            <a:hlinkClick r:id="rId2"/>
          </p:cNvPr>
          <p:cNvPicPr/>
          <p:nvPr/>
        </p:nvPicPr>
        <p:blipFill>
          <a:blip r:embed="rId3"/>
          <a:stretch/>
        </p:blipFill>
        <p:spPr>
          <a:xfrm>
            <a:off x="380880" y="1371600"/>
            <a:ext cx="4157640" cy="27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08" name="Picture 5" descr="MSH81_st_helens_dome_from_deepthroat_08-22-81_med"/>
          <p:cNvPicPr/>
          <p:nvPr/>
        </p:nvPicPr>
        <p:blipFill>
          <a:blip r:embed="rId1"/>
          <a:stretch/>
        </p:blipFill>
        <p:spPr>
          <a:xfrm>
            <a:off x="1600200" y="228600"/>
            <a:ext cx="5715000" cy="3838680"/>
          </a:xfrm>
          <a:prstGeom prst="rect">
            <a:avLst/>
          </a:prstGeom>
          <a:ln w="0">
            <a:noFill/>
          </a:ln>
        </p:spPr>
      </p:pic>
      <p:sp>
        <p:nvSpPr>
          <p:cNvPr id="109" name="Rectangle 6"/>
          <p:cNvSpPr/>
          <p:nvPr/>
        </p:nvSpPr>
        <p:spPr>
          <a:xfrm>
            <a:off x="380880" y="419112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nt St. Helens' lava dome in August 1981, as viewed from a photo station, 1/2 mile away. In this view the dome is 535 feet high and nearly 1/4 mile wid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11" name="Picture 4" descr="http://www.phschool.com/math/awsm/advanced_algebra/images/aa1002a.gif"/>
          <p:cNvPicPr/>
          <p:nvPr/>
        </p:nvPicPr>
        <p:blipFill>
          <a:blip r:embed="rId1"/>
          <a:stretch/>
        </p:blipFill>
        <p:spPr>
          <a:xfrm>
            <a:off x="533520" y="304920"/>
            <a:ext cx="4162320" cy="2693880"/>
          </a:xfrm>
          <a:prstGeom prst="rect">
            <a:avLst/>
          </a:prstGeom>
          <a:ln w="0">
            <a:noFill/>
          </a:ln>
        </p:spPr>
      </p:pic>
      <p:sp>
        <p:nvSpPr>
          <p:cNvPr id="112" name="Rectangle 5"/>
          <p:cNvSpPr/>
          <p:nvPr/>
        </p:nvSpPr>
        <p:spPr>
          <a:xfrm>
            <a:off x="248040" y="3124800"/>
            <a:ext cx="8890560" cy="3111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nt St. Helens' lava dome in August 1981, as viewed from a photo station, 1/2 m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y. In this view the dome is 535 feet high and nearly 1/4 mile wide, making it tal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 a 44-story building (or, nearly the height of the Washington Monument)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 than the length of four football fields. Compare with image taken August 1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5 from the same location with the same camera.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HCAHTOA to find the the measure of Angle A.</a:t>
            </a:r>
            <a:endParaRPr b="0" lang="en-US" sz="1800" spc="-1" strike="noStrike">
              <a:solidFill>
                <a:srgbClr val="000000"/>
              </a:solidFill>
              <a:latin typeface="Arial"/>
            </a:endParaRPr>
          </a:p>
        </p:txBody>
      </p:sp>
      <p:sp>
        <p:nvSpPr>
          <p:cNvPr id="113" name="Ink 7"/>
          <p:cNvSpPr/>
          <p:nvPr/>
        </p:nvSpPr>
        <p:spPr>
          <a:xfrm>
            <a:off x="3581280" y="1241280"/>
            <a:ext cx="142920" cy="160560"/>
          </a:xfrm>
          <a:custGeom>
            <a:avLst/>
            <a:gdLst/>
            <a:ahLst/>
            <a:rect l="l" t="t" r="r" b="b"/>
            <a:pathLst>
              <a:path w="398" h="447">
                <a:moveTo>
                  <a:pt x="10344" y="3497"/>
                </a:moveTo>
                <a:cubicBezTo>
                  <a:pt x="10336" y="3497"/>
                  <a:pt x="10327" y="3497"/>
                  <a:pt x="10319" y="3497"/>
                </a:cubicBezTo>
                <a:cubicBezTo>
                  <a:pt x="10309" y="3469"/>
                  <a:pt x="10284" y="3453"/>
                  <a:pt x="10244" y="3448"/>
                </a:cubicBezTo>
                <a:cubicBezTo>
                  <a:pt x="10167" y="3439"/>
                  <a:pt x="10108" y="3452"/>
                  <a:pt x="10046" y="3473"/>
                </a:cubicBezTo>
                <a:cubicBezTo>
                  <a:pt x="10021" y="3473"/>
                  <a:pt x="10013" y="3473"/>
                  <a:pt x="9996" y="3473"/>
                </a:cubicBezTo>
                <a:cubicBezTo>
                  <a:pt x="9996" y="3526"/>
                  <a:pt x="9974" y="3542"/>
                  <a:pt x="9971" y="3597"/>
                </a:cubicBezTo>
                <a:cubicBezTo>
                  <a:pt x="9965" y="3696"/>
                  <a:pt x="9975" y="3784"/>
                  <a:pt x="9947" y="3870"/>
                </a:cubicBezTo>
                <a:cubicBezTo>
                  <a:pt x="9931" y="3920"/>
                  <a:pt x="9947" y="3865"/>
                  <a:pt x="9947" y="384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Ink 10"/>
          <p:cNvSpPr/>
          <p:nvPr/>
        </p:nvSpPr>
        <p:spPr>
          <a:xfrm>
            <a:off x="4295880" y="1830240"/>
            <a:ext cx="1071360" cy="876600"/>
          </a:xfrm>
          <a:custGeom>
            <a:avLst/>
            <a:gdLst/>
            <a:ahLst/>
            <a:rect l="l" t="t" r="r" b="b"/>
            <a:pathLst>
              <a:path w="2978" h="2432">
                <a:moveTo>
                  <a:pt x="11981" y="6995"/>
                </a:moveTo>
                <a:cubicBezTo>
                  <a:pt x="12033" y="6965"/>
                  <a:pt x="12079" y="6926"/>
                  <a:pt x="12129" y="6896"/>
                </a:cubicBezTo>
                <a:cubicBezTo>
                  <a:pt x="12165" y="6874"/>
                  <a:pt x="12218" y="6837"/>
                  <a:pt x="12254" y="6821"/>
                </a:cubicBezTo>
                <a:cubicBezTo>
                  <a:pt x="12278" y="6821"/>
                  <a:pt x="12286" y="6821"/>
                  <a:pt x="12278" y="6796"/>
                </a:cubicBezTo>
              </a:path>
              <a:path w="2978" h="2432">
                <a:moveTo>
                  <a:pt x="11956" y="7020"/>
                </a:moveTo>
                <a:cubicBezTo>
                  <a:pt x="11934" y="7092"/>
                  <a:pt x="11931" y="7121"/>
                  <a:pt x="11931" y="7193"/>
                </a:cubicBezTo>
                <a:cubicBezTo>
                  <a:pt x="11931" y="7201"/>
                  <a:pt x="11931" y="7210"/>
                  <a:pt x="11931" y="7218"/>
                </a:cubicBezTo>
                <a:cubicBezTo>
                  <a:pt x="11991" y="7218"/>
                  <a:pt x="11981" y="7190"/>
                  <a:pt x="12030" y="7169"/>
                </a:cubicBezTo>
                <a:cubicBezTo>
                  <a:pt x="12068" y="7153"/>
                  <a:pt x="12108" y="7124"/>
                  <a:pt x="12154" y="7119"/>
                </a:cubicBezTo>
                <a:cubicBezTo>
                  <a:pt x="12206" y="7114"/>
                  <a:pt x="12219" y="7134"/>
                  <a:pt x="12254" y="7169"/>
                </a:cubicBezTo>
                <a:cubicBezTo>
                  <a:pt x="12301" y="7216"/>
                  <a:pt x="12276" y="7287"/>
                  <a:pt x="12254" y="7342"/>
                </a:cubicBezTo>
                <a:cubicBezTo>
                  <a:pt x="12239" y="7381"/>
                  <a:pt x="12213" y="7464"/>
                  <a:pt x="12179" y="7491"/>
                </a:cubicBezTo>
                <a:cubicBezTo>
                  <a:pt x="12155" y="7509"/>
                  <a:pt x="12114" y="7516"/>
                  <a:pt x="12080" y="7516"/>
                </a:cubicBezTo>
                <a:cubicBezTo>
                  <a:pt x="12072" y="7516"/>
                  <a:pt x="12063" y="7516"/>
                  <a:pt x="12055" y="7516"/>
                </a:cubicBezTo>
                <a:cubicBezTo>
                  <a:pt x="12055" y="7457"/>
                  <a:pt x="12079" y="7421"/>
                  <a:pt x="12105" y="7367"/>
                </a:cubicBezTo>
                <a:cubicBezTo>
                  <a:pt x="12113" y="7350"/>
                  <a:pt x="12121" y="7334"/>
                  <a:pt x="12129" y="7317"/>
                </a:cubicBezTo>
              </a:path>
              <a:path w="2978" h="2432">
                <a:moveTo>
                  <a:pt x="12427" y="6722"/>
                </a:moveTo>
                <a:cubicBezTo>
                  <a:pt x="12439" y="6672"/>
                  <a:pt x="12451" y="6672"/>
                  <a:pt x="12502" y="6672"/>
                </a:cubicBezTo>
                <a:cubicBezTo>
                  <a:pt x="12564" y="6672"/>
                  <a:pt x="12551" y="6726"/>
                  <a:pt x="12551" y="6772"/>
                </a:cubicBezTo>
                <a:cubicBezTo>
                  <a:pt x="12551" y="6831"/>
                  <a:pt x="12511" y="6888"/>
                  <a:pt x="12502" y="6945"/>
                </a:cubicBezTo>
                <a:cubicBezTo>
                  <a:pt x="12492" y="7009"/>
                  <a:pt x="12477" y="7048"/>
                  <a:pt x="12477" y="7119"/>
                </a:cubicBezTo>
                <a:cubicBezTo>
                  <a:pt x="12477" y="7172"/>
                  <a:pt x="12527" y="7149"/>
                  <a:pt x="12551" y="7144"/>
                </a:cubicBezTo>
                <a:cubicBezTo>
                  <a:pt x="12612" y="7130"/>
                  <a:pt x="12636" y="7092"/>
                  <a:pt x="12675" y="7045"/>
                </a:cubicBezTo>
                <a:cubicBezTo>
                  <a:pt x="12711" y="7001"/>
                  <a:pt x="12744" y="6969"/>
                  <a:pt x="12774" y="6921"/>
                </a:cubicBezTo>
              </a:path>
              <a:path w="2978" h="2432">
                <a:moveTo>
                  <a:pt x="12898" y="6449"/>
                </a:moveTo>
                <a:cubicBezTo>
                  <a:pt x="12853" y="6436"/>
                  <a:pt x="12808" y="6423"/>
                  <a:pt x="12774" y="6474"/>
                </a:cubicBezTo>
                <a:cubicBezTo>
                  <a:pt x="12746" y="6515"/>
                  <a:pt x="12693" y="6579"/>
                  <a:pt x="12675" y="6623"/>
                </a:cubicBezTo>
                <a:cubicBezTo>
                  <a:pt x="12661" y="6657"/>
                  <a:pt x="12672" y="6747"/>
                  <a:pt x="12700" y="6772"/>
                </a:cubicBezTo>
                <a:cubicBezTo>
                  <a:pt x="12738" y="6807"/>
                  <a:pt x="12785" y="6832"/>
                  <a:pt x="12824" y="6871"/>
                </a:cubicBezTo>
                <a:cubicBezTo>
                  <a:pt x="12856" y="6903"/>
                  <a:pt x="12893" y="6926"/>
                  <a:pt x="12898" y="6970"/>
                </a:cubicBezTo>
                <a:cubicBezTo>
                  <a:pt x="12902" y="7012"/>
                  <a:pt x="12890" y="7031"/>
                  <a:pt x="12849" y="7045"/>
                </a:cubicBezTo>
                <a:cubicBezTo>
                  <a:pt x="12788" y="7065"/>
                  <a:pt x="12774" y="7013"/>
                  <a:pt x="12774" y="6970"/>
                </a:cubicBezTo>
                <a:cubicBezTo>
                  <a:pt x="12774" y="6871"/>
                  <a:pt x="12808" y="6812"/>
                  <a:pt x="12849" y="6722"/>
                </a:cubicBezTo>
                <a:cubicBezTo>
                  <a:pt x="12874" y="6672"/>
                  <a:pt x="12882" y="6656"/>
                  <a:pt x="12898" y="6623"/>
                </a:cubicBezTo>
              </a:path>
              <a:path w="2978" h="2432">
                <a:moveTo>
                  <a:pt x="12998" y="6424"/>
                </a:moveTo>
                <a:cubicBezTo>
                  <a:pt x="12998" y="6546"/>
                  <a:pt x="12996" y="6657"/>
                  <a:pt x="13022" y="6772"/>
                </a:cubicBezTo>
                <a:cubicBezTo>
                  <a:pt x="13033" y="6822"/>
                  <a:pt x="13064" y="6803"/>
                  <a:pt x="13097" y="6796"/>
                </a:cubicBezTo>
                <a:cubicBezTo>
                  <a:pt x="13160" y="6782"/>
                  <a:pt x="13136" y="6750"/>
                  <a:pt x="13171" y="6697"/>
                </a:cubicBezTo>
                <a:cubicBezTo>
                  <a:pt x="13206" y="6644"/>
                  <a:pt x="13196" y="6590"/>
                  <a:pt x="13196" y="6524"/>
                </a:cubicBezTo>
                <a:cubicBezTo>
                  <a:pt x="13196" y="6467"/>
                  <a:pt x="13159" y="6437"/>
                  <a:pt x="13122" y="6400"/>
                </a:cubicBezTo>
                <a:cubicBezTo>
                  <a:pt x="13069" y="6347"/>
                  <a:pt x="13026" y="6335"/>
                  <a:pt x="13072" y="6276"/>
                </a:cubicBezTo>
              </a:path>
              <a:path w="2978" h="2432">
                <a:moveTo>
                  <a:pt x="13494" y="5879"/>
                </a:moveTo>
                <a:cubicBezTo>
                  <a:pt x="13431" y="5879"/>
                  <a:pt x="13397" y="5887"/>
                  <a:pt x="13345" y="5904"/>
                </a:cubicBezTo>
                <a:cubicBezTo>
                  <a:pt x="13317" y="5913"/>
                  <a:pt x="13298" y="5937"/>
                  <a:pt x="13295" y="5978"/>
                </a:cubicBezTo>
                <a:cubicBezTo>
                  <a:pt x="13290" y="6045"/>
                  <a:pt x="13312" y="6091"/>
                  <a:pt x="13320" y="6152"/>
                </a:cubicBezTo>
                <a:cubicBezTo>
                  <a:pt x="13331" y="6239"/>
                  <a:pt x="13360" y="6345"/>
                  <a:pt x="13395" y="6424"/>
                </a:cubicBezTo>
                <a:cubicBezTo>
                  <a:pt x="13413" y="6465"/>
                  <a:pt x="13456" y="6508"/>
                  <a:pt x="13469" y="6548"/>
                </a:cubicBezTo>
                <a:cubicBezTo>
                  <a:pt x="13469" y="6573"/>
                  <a:pt x="13469" y="6581"/>
                  <a:pt x="13469" y="6548"/>
                </a:cubicBezTo>
              </a:path>
              <a:path w="2978" h="2432">
                <a:moveTo>
                  <a:pt x="13295" y="6449"/>
                </a:moveTo>
                <a:cubicBezTo>
                  <a:pt x="13355" y="6440"/>
                  <a:pt x="13392" y="6414"/>
                  <a:pt x="13444" y="6375"/>
                </a:cubicBezTo>
                <a:cubicBezTo>
                  <a:pt x="13490" y="6340"/>
                  <a:pt x="13510" y="6323"/>
                  <a:pt x="13543" y="6276"/>
                </a:cubicBezTo>
              </a:path>
              <a:path w="2978" h="2432">
                <a:moveTo>
                  <a:pt x="13593" y="5953"/>
                </a:moveTo>
                <a:cubicBezTo>
                  <a:pt x="13615" y="6035"/>
                  <a:pt x="13620" y="6127"/>
                  <a:pt x="13667" y="6201"/>
                </a:cubicBezTo>
                <a:cubicBezTo>
                  <a:pt x="13702" y="6256"/>
                  <a:pt x="13752" y="6315"/>
                  <a:pt x="13767" y="6375"/>
                </a:cubicBezTo>
              </a:path>
              <a:path w="2978" h="2432">
                <a:moveTo>
                  <a:pt x="13519" y="6201"/>
                </a:moveTo>
                <a:cubicBezTo>
                  <a:pt x="13581" y="6145"/>
                  <a:pt x="13669" y="6087"/>
                  <a:pt x="13717" y="6028"/>
                </a:cubicBezTo>
                <a:cubicBezTo>
                  <a:pt x="13725" y="6011"/>
                  <a:pt x="13734" y="5995"/>
                  <a:pt x="13742" y="5978"/>
                </a:cubicBezTo>
              </a:path>
              <a:path w="2978" h="2432">
                <a:moveTo>
                  <a:pt x="13816" y="6003"/>
                </a:moveTo>
                <a:cubicBezTo>
                  <a:pt x="13884" y="5993"/>
                  <a:pt x="13891" y="5976"/>
                  <a:pt x="13940" y="5928"/>
                </a:cubicBezTo>
                <a:cubicBezTo>
                  <a:pt x="13948" y="5920"/>
                  <a:pt x="13957" y="5912"/>
                  <a:pt x="13965" y="5904"/>
                </a:cubicBezTo>
              </a:path>
              <a:path w="2978" h="2432">
                <a:moveTo>
                  <a:pt x="13891" y="6102"/>
                </a:moveTo>
                <a:cubicBezTo>
                  <a:pt x="13899" y="6102"/>
                  <a:pt x="13907" y="6102"/>
                  <a:pt x="13915" y="6102"/>
                </a:cubicBezTo>
                <a:cubicBezTo>
                  <a:pt x="13934" y="6064"/>
                  <a:pt x="13978" y="6040"/>
                  <a:pt x="14015" y="6003"/>
                </a:cubicBezTo>
                <a:cubicBezTo>
                  <a:pt x="14044" y="5973"/>
                  <a:pt x="14055" y="5958"/>
                  <a:pt x="14064" y="5928"/>
                </a:cubicBezTo>
              </a:path>
              <a:path w="2978" h="2432">
                <a:moveTo>
                  <a:pt x="14089" y="5383"/>
                </a:moveTo>
                <a:cubicBezTo>
                  <a:pt x="14126" y="5456"/>
                  <a:pt x="14165" y="5527"/>
                  <a:pt x="14188" y="5606"/>
                </a:cubicBezTo>
                <a:cubicBezTo>
                  <a:pt x="14208" y="5674"/>
                  <a:pt x="14251" y="5768"/>
                  <a:pt x="14263" y="5829"/>
                </a:cubicBezTo>
                <a:cubicBezTo>
                  <a:pt x="14274" y="5886"/>
                  <a:pt x="14279" y="5907"/>
                  <a:pt x="14312" y="5953"/>
                </a:cubicBezTo>
              </a:path>
              <a:path w="2978" h="2432">
                <a:moveTo>
                  <a:pt x="14387" y="5655"/>
                </a:moveTo>
                <a:cubicBezTo>
                  <a:pt x="14401" y="5703"/>
                  <a:pt x="14431" y="5760"/>
                  <a:pt x="14436" y="5804"/>
                </a:cubicBezTo>
                <a:cubicBezTo>
                  <a:pt x="14436" y="5829"/>
                  <a:pt x="14436" y="5837"/>
                  <a:pt x="14436" y="5804"/>
                </a:cubicBezTo>
                <a:cubicBezTo>
                  <a:pt x="14428" y="5742"/>
                  <a:pt x="14412" y="5695"/>
                  <a:pt x="14412" y="5631"/>
                </a:cubicBezTo>
                <a:cubicBezTo>
                  <a:pt x="14412" y="5567"/>
                  <a:pt x="14400" y="5508"/>
                  <a:pt x="14436" y="5457"/>
                </a:cubicBezTo>
                <a:cubicBezTo>
                  <a:pt x="14506" y="5497"/>
                  <a:pt x="14508" y="5509"/>
                  <a:pt x="14536" y="5581"/>
                </a:cubicBezTo>
                <a:cubicBezTo>
                  <a:pt x="14556" y="5634"/>
                  <a:pt x="14560" y="5651"/>
                  <a:pt x="14560" y="5705"/>
                </a:cubicBezTo>
                <a:cubicBezTo>
                  <a:pt x="14560" y="5631"/>
                  <a:pt x="14573" y="5575"/>
                  <a:pt x="14585" y="5507"/>
                </a:cubicBezTo>
                <a:cubicBezTo>
                  <a:pt x="14596" y="5445"/>
                  <a:pt x="14572" y="5432"/>
                  <a:pt x="14610" y="5383"/>
                </a:cubicBezTo>
                <a:cubicBezTo>
                  <a:pt x="14678" y="5448"/>
                  <a:pt x="14706" y="5540"/>
                  <a:pt x="14734" y="5631"/>
                </a:cubicBezTo>
                <a:cubicBezTo>
                  <a:pt x="14734" y="5655"/>
                  <a:pt x="14734" y="5663"/>
                  <a:pt x="14759" y="5655"/>
                </a:cubicBezTo>
              </a:path>
              <a:path w="2978" h="2432">
                <a:moveTo>
                  <a:pt x="14858" y="5457"/>
                </a:moveTo>
                <a:cubicBezTo>
                  <a:pt x="14874" y="5495"/>
                  <a:pt x="14887" y="5567"/>
                  <a:pt x="14908" y="5507"/>
                </a:cubicBezTo>
              </a:path>
              <a:path w="2978" h="2432">
                <a:moveTo>
                  <a:pt x="14734" y="5085"/>
                </a:moveTo>
                <a:cubicBezTo>
                  <a:pt x="14709" y="5085"/>
                  <a:pt x="14701" y="5085"/>
                  <a:pt x="14684" y="508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Ink 15"/>
          <p:cNvSpPr/>
          <p:nvPr/>
        </p:nvSpPr>
        <p:spPr>
          <a:xfrm>
            <a:off x="6724800" y="1116000"/>
            <a:ext cx="106200" cy="187200"/>
          </a:xfrm>
          <a:custGeom>
            <a:avLst/>
            <a:gdLst/>
            <a:ahLst/>
            <a:rect l="l" t="t" r="r" b="b"/>
            <a:pathLst>
              <a:path w="299" h="521">
                <a:moveTo>
                  <a:pt x="18678" y="3150"/>
                </a:moveTo>
                <a:cubicBezTo>
                  <a:pt x="18689" y="3116"/>
                  <a:pt x="18729" y="3106"/>
                  <a:pt x="18777" y="3101"/>
                </a:cubicBezTo>
                <a:cubicBezTo>
                  <a:pt x="18832" y="3096"/>
                  <a:pt x="18866" y="3095"/>
                  <a:pt x="18901" y="3150"/>
                </a:cubicBezTo>
                <a:cubicBezTo>
                  <a:pt x="18920" y="3180"/>
                  <a:pt x="18889" y="3254"/>
                  <a:pt x="18876" y="3274"/>
                </a:cubicBezTo>
                <a:cubicBezTo>
                  <a:pt x="18854" y="3308"/>
                  <a:pt x="18843" y="3335"/>
                  <a:pt x="18802" y="3349"/>
                </a:cubicBezTo>
                <a:cubicBezTo>
                  <a:pt x="18774" y="3349"/>
                  <a:pt x="18763" y="3351"/>
                  <a:pt x="18752" y="3373"/>
                </a:cubicBezTo>
                <a:cubicBezTo>
                  <a:pt x="18762" y="3345"/>
                  <a:pt x="18787" y="3328"/>
                  <a:pt x="18827" y="3324"/>
                </a:cubicBezTo>
                <a:cubicBezTo>
                  <a:pt x="18852" y="3321"/>
                  <a:pt x="18907" y="3361"/>
                  <a:pt x="18926" y="3373"/>
                </a:cubicBezTo>
                <a:cubicBezTo>
                  <a:pt x="18969" y="3401"/>
                  <a:pt x="18976" y="3427"/>
                  <a:pt x="18976" y="3473"/>
                </a:cubicBezTo>
                <a:cubicBezTo>
                  <a:pt x="18976" y="3495"/>
                  <a:pt x="18965" y="3567"/>
                  <a:pt x="18951" y="3572"/>
                </a:cubicBezTo>
                <a:cubicBezTo>
                  <a:pt x="18911" y="3587"/>
                  <a:pt x="18866" y="3608"/>
                  <a:pt x="18827" y="3621"/>
                </a:cubicBezTo>
                <a:cubicBezTo>
                  <a:pt x="18808" y="3627"/>
                  <a:pt x="18773" y="3621"/>
                  <a:pt x="18752" y="3621"/>
                </a:cubicBezTo>
                <a:cubicBezTo>
                  <a:pt x="18761" y="3585"/>
                  <a:pt x="18781" y="3559"/>
                  <a:pt x="18802" y="352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olcanologist at </a:t>
            </a:r>
            <a:r>
              <a:rPr b="0" i="1" lang="en-US" sz="2800" spc="-1" strike="noStrike">
                <a:solidFill>
                  <a:srgbClr val="000000"/>
                </a:solidFill>
                <a:latin typeface="Garamond"/>
              </a:rPr>
              <a:t>A</a:t>
            </a:r>
            <a:r>
              <a:rPr b="0" lang="en-US" sz="2800" spc="-1" strike="noStrike">
                <a:solidFill>
                  <a:srgbClr val="000000"/>
                </a:solidFill>
                <a:latin typeface="Garamond"/>
              </a:rPr>
              <a:t> made EDM measurements of a lava dome as shown. Use the Law of Cosines to find </a:t>
            </a:r>
            <a:r>
              <a:rPr b="0" i="1" lang="en-US" sz="2800" spc="-1" strike="noStrike">
                <a:solidFill>
                  <a:srgbClr val="000000"/>
                </a:solidFill>
                <a:latin typeface="Garamond"/>
              </a:rPr>
              <a:t>BD</a:t>
            </a:r>
            <a:r>
              <a:rPr b="0" lang="en-US" sz="2800" spc="-1" strike="noStrike">
                <a:solidFill>
                  <a:srgbClr val="000000"/>
                </a:solidFill>
                <a:latin typeface="Garamond"/>
              </a:rPr>
              <a:t>. Then find the height of the dome.</a:t>
            </a:r>
            <a:endParaRPr b="0" lang="en-US" sz="2800" spc="-1" strike="noStrike">
              <a:solidFill>
                <a:srgbClr val="000000"/>
              </a:solidFill>
              <a:latin typeface="Garamond"/>
            </a:endParaRPr>
          </a:p>
        </p:txBody>
      </p:sp>
      <p:pic>
        <p:nvPicPr>
          <p:cNvPr id="117" name="Picture 4" descr="http://www.phschool.com/math/awsm/advanced_algebra/images/aa1002c.gif"/>
          <p:cNvPicPr/>
          <p:nvPr/>
        </p:nvPicPr>
        <p:blipFill>
          <a:blip r:embed="rId1"/>
          <a:stretch/>
        </p:blipFill>
        <p:spPr>
          <a:xfrm>
            <a:off x="1752480" y="1523880"/>
            <a:ext cx="5357880" cy="2305080"/>
          </a:xfrm>
          <a:prstGeom prst="rect">
            <a:avLst/>
          </a:prstGeom>
          <a:ln w="0">
            <a:noFill/>
          </a:ln>
        </p:spPr>
      </p:pic>
      <p:sp>
        <p:nvSpPr>
          <p:cNvPr id="118" name="Rectangle 5"/>
          <p:cNvSpPr/>
          <p:nvPr/>
        </p:nvSpPr>
        <p:spPr>
          <a:xfrm>
            <a:off x="310680" y="4343040"/>
            <a:ext cx="3886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D </a:t>
            </a:r>
            <a:r>
              <a:rPr b="0" lang="en-US" sz="1800" spc="-1" strike="noStrike">
                <a:solidFill>
                  <a:srgbClr val="000000"/>
                </a:solidFill>
                <a:latin typeface="Arial"/>
              </a:rPr>
              <a:t>= 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 of dome = _______________</a:t>
            </a:r>
            <a:endParaRPr b="0" lang="en-US" sz="1800" spc="-1" strike="noStrike">
              <a:solidFill>
                <a:srgbClr val="000000"/>
              </a:solidFill>
              <a:latin typeface="Arial"/>
            </a:endParaRPr>
          </a:p>
        </p:txBody>
      </p:sp>
      <p:sp>
        <p:nvSpPr>
          <p:cNvPr id="119" name="Ink 9"/>
          <p:cNvSpPr/>
          <p:nvPr/>
        </p:nvSpPr>
        <p:spPr>
          <a:xfrm>
            <a:off x="5776920" y="2303640"/>
            <a:ext cx="438120" cy="723600"/>
          </a:xfrm>
          <a:custGeom>
            <a:avLst/>
            <a:gdLst/>
            <a:ahLst/>
            <a:rect l="l" t="t" r="r" b="b"/>
            <a:pathLst>
              <a:path w="1216" h="2010">
                <a:moveTo>
                  <a:pt x="16545" y="7863"/>
                </a:moveTo>
                <a:cubicBezTo>
                  <a:pt x="16535" y="7834"/>
                  <a:pt x="16511" y="7818"/>
                  <a:pt x="16470" y="7813"/>
                </a:cubicBezTo>
                <a:cubicBezTo>
                  <a:pt x="16407" y="7806"/>
                  <a:pt x="16374" y="7806"/>
                  <a:pt x="16321" y="7789"/>
                </a:cubicBezTo>
                <a:cubicBezTo>
                  <a:pt x="16250" y="7766"/>
                  <a:pt x="16156" y="7794"/>
                  <a:pt x="16098" y="7813"/>
                </a:cubicBezTo>
                <a:cubicBezTo>
                  <a:pt x="16090" y="7813"/>
                  <a:pt x="16081" y="7813"/>
                  <a:pt x="16073" y="7813"/>
                </a:cubicBezTo>
                <a:cubicBezTo>
                  <a:pt x="16103" y="7843"/>
                  <a:pt x="16144" y="7858"/>
                  <a:pt x="16148" y="7888"/>
                </a:cubicBezTo>
                <a:cubicBezTo>
                  <a:pt x="16158" y="7969"/>
                  <a:pt x="16136" y="8044"/>
                  <a:pt x="16123" y="8111"/>
                </a:cubicBezTo>
                <a:cubicBezTo>
                  <a:pt x="16110" y="8177"/>
                  <a:pt x="16079" y="8242"/>
                  <a:pt x="16073" y="8310"/>
                </a:cubicBezTo>
                <a:cubicBezTo>
                  <a:pt x="16069" y="8350"/>
                  <a:pt x="16055" y="8364"/>
                  <a:pt x="16049" y="8409"/>
                </a:cubicBezTo>
              </a:path>
              <a:path w="1216" h="2010">
                <a:moveTo>
                  <a:pt x="16917" y="6474"/>
                </a:moveTo>
                <a:cubicBezTo>
                  <a:pt x="16928" y="6518"/>
                  <a:pt x="16944" y="6557"/>
                  <a:pt x="16966" y="6598"/>
                </a:cubicBezTo>
                <a:cubicBezTo>
                  <a:pt x="17015" y="6690"/>
                  <a:pt x="17063" y="6783"/>
                  <a:pt x="17115" y="6871"/>
                </a:cubicBezTo>
                <a:cubicBezTo>
                  <a:pt x="17135" y="6905"/>
                  <a:pt x="17182" y="6979"/>
                  <a:pt x="17214" y="6995"/>
                </a:cubicBezTo>
                <a:cubicBezTo>
                  <a:pt x="17239" y="6995"/>
                  <a:pt x="17247" y="6995"/>
                  <a:pt x="17264" y="6995"/>
                </a:cubicBezTo>
                <a:cubicBezTo>
                  <a:pt x="17264" y="6962"/>
                  <a:pt x="17264" y="6929"/>
                  <a:pt x="17264" y="6896"/>
                </a:cubicBezTo>
              </a:path>
              <a:path w="1216" h="2010">
                <a:moveTo>
                  <a:pt x="17239" y="6400"/>
                </a:moveTo>
                <a:cubicBezTo>
                  <a:pt x="17171" y="6438"/>
                  <a:pt x="17139" y="6469"/>
                  <a:pt x="17090" y="6524"/>
                </a:cubicBezTo>
                <a:cubicBezTo>
                  <a:pt x="17026" y="6596"/>
                  <a:pt x="16949" y="6669"/>
                  <a:pt x="16892" y="6747"/>
                </a:cubicBezTo>
                <a:cubicBezTo>
                  <a:pt x="16848" y="6807"/>
                  <a:pt x="16781" y="6868"/>
                  <a:pt x="16743" y="6921"/>
                </a:cubicBezTo>
                <a:cubicBezTo>
                  <a:pt x="16718" y="6956"/>
                  <a:pt x="16693" y="7056"/>
                  <a:pt x="16669" y="7020"/>
                </a:cubicBezTo>
                <a:cubicBezTo>
                  <a:pt x="16669" y="7003"/>
                  <a:pt x="16669" y="6987"/>
                  <a:pt x="16669" y="6970"/>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21" name="Picture 5" descr="MSH85_st_helens_dome_from_deepthroat_08-12-85_med"/>
          <p:cNvPicPr/>
          <p:nvPr/>
        </p:nvPicPr>
        <p:blipFill>
          <a:blip r:embed="rId1"/>
          <a:stretch/>
        </p:blipFill>
        <p:spPr>
          <a:xfrm>
            <a:off x="4724280" y="304920"/>
            <a:ext cx="3429000" cy="2286000"/>
          </a:xfrm>
          <a:prstGeom prst="rect">
            <a:avLst/>
          </a:prstGeom>
          <a:ln w="0">
            <a:noFill/>
          </a:ln>
        </p:spPr>
      </p:pic>
      <p:pic>
        <p:nvPicPr>
          <p:cNvPr id="122" name="Picture 6" descr="MSH81_st_helens_dome_from_deepthroat_08-22-81_med"/>
          <p:cNvPicPr/>
          <p:nvPr/>
        </p:nvPicPr>
        <p:blipFill>
          <a:blip r:embed="rId2"/>
          <a:stretch/>
        </p:blipFill>
        <p:spPr>
          <a:xfrm>
            <a:off x="914400" y="304920"/>
            <a:ext cx="3444840" cy="231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533520" y="457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 wireless company erects an 85-foot vertical cellular phone tower. Find the angle of elevation to the top of the tower from a point on the ground 110 feet from its base.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A.   63.2°      B.   45.2° </a:t>
            </a:r>
            <a:r>
              <a:rPr b="0" lang="en-US" sz="3200" spc="-1" strike="noStrike">
                <a:solidFill>
                  <a:srgbClr val="000000"/>
                </a:solidFill>
                <a:latin typeface="Garamond"/>
              </a:rPr>
              <a:t>	</a:t>
            </a:r>
            <a:r>
              <a:rPr b="0" lang="en-US" sz="3200" spc="-1" strike="noStrike">
                <a:solidFill>
                  <a:srgbClr val="000000"/>
                </a:solidFill>
                <a:latin typeface="Garamond"/>
              </a:rPr>
              <a:t> C.   37.7°</a:t>
            </a:r>
            <a:r>
              <a:rPr b="0" lang="en-US" sz="3200" spc="-1" strike="noStrike">
                <a:solidFill>
                  <a:srgbClr val="000000"/>
                </a:solidFill>
                <a:latin typeface="Garamond"/>
              </a:rPr>
              <a:t>	</a:t>
            </a:r>
            <a:r>
              <a:rPr b="0" lang="en-US" sz="3200" spc="-1" strike="noStrike">
                <a:solidFill>
                  <a:srgbClr val="000000"/>
                </a:solidFill>
                <a:latin typeface="Garamond"/>
              </a:rPr>
              <a:t>  D. 52.3°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  wall is leaning 6° from the vertical toward you.  You are standing 40’ from the base of the wall, and the angle of elevation from your feet to the top of the wall is 22°.  Find the height of the wall to the nearest tenth of a foo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Methods we currently have to solve triangles…</a:t>
            </a:r>
            <a:endParaRPr b="0" lang="en-US" sz="4000" spc="-1" strike="noStrike">
              <a:solidFill>
                <a:srgbClr val="000000"/>
              </a:solidFill>
              <a:latin typeface="Garamond"/>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riangle Sum Theorem (angles add up to 180)</a:t>
            </a:r>
            <a:endParaRPr b="0" lang="en-US" sz="3200" spc="-1" strike="noStrike">
              <a:solidFill>
                <a:srgbClr val="000000"/>
              </a:solidFill>
              <a:latin typeface="Garamond"/>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ythagorean Theorem</a:t>
            </a:r>
            <a:endParaRPr b="0" lang="en-US" sz="3200" spc="-1" strike="noStrike">
              <a:solidFill>
                <a:srgbClr val="000000"/>
              </a:solidFill>
              <a:latin typeface="Garamond"/>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HCAHTOA</a:t>
            </a:r>
            <a:endParaRPr b="0" lang="en-US" sz="3200" spc="-1" strike="noStrike">
              <a:solidFill>
                <a:srgbClr val="000000"/>
              </a:solidFill>
              <a:latin typeface="Garamond"/>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w of Sines</a:t>
            </a:r>
            <a:endParaRPr b="0" lang="en-US" sz="3200" spc="-1" strike="noStrike">
              <a:solidFill>
                <a:srgbClr val="000000"/>
              </a:solidFill>
              <a:latin typeface="Garamond"/>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ut will they always wor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Solve a triangle:</a:t>
            </a:r>
            <a:br>
              <a:rPr sz="4000"/>
            </a:br>
            <a:r>
              <a:rPr b="0" lang="en-US" sz="4000" spc="-1" strike="noStrike">
                <a:solidFill>
                  <a:srgbClr val="000000"/>
                </a:solidFill>
                <a:latin typeface="Garamond"/>
              </a:rPr>
              <a:t>a = 9, b = 3 and c = 11</a:t>
            </a:r>
            <a:endParaRPr b="0" lang="en-US" sz="4000" spc="-1" strike="noStrike">
              <a:solidFill>
                <a:srgbClr val="000000"/>
              </a:solidFill>
              <a:latin typeface="Garamond"/>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We are going to have to have another method!!!!</a:t>
            </a:r>
            <a:endParaRPr b="0" lang="en-US" sz="4000" spc="-1" strike="noStrike">
              <a:solidFill>
                <a:srgbClr val="000000"/>
              </a:solidFill>
              <a:latin typeface="Garamond"/>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Law of Cosines:</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If you are looking for a side use these:</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a</a:t>
            </a:r>
            <a:r>
              <a:rPr b="0" lang="en-US" sz="3200" spc="-1" strike="noStrike" baseline="30000">
                <a:solidFill>
                  <a:srgbClr val="000000"/>
                </a:solidFill>
                <a:latin typeface="Garamond"/>
              </a:rPr>
              <a:t>2</a:t>
            </a:r>
            <a:r>
              <a:rPr b="0" lang="en-US" sz="3200" spc="-1" strike="noStrike">
                <a:solidFill>
                  <a:srgbClr val="000000"/>
                </a:solidFill>
                <a:latin typeface="Garamond"/>
              </a:rPr>
              <a:t> = b</a:t>
            </a:r>
            <a:r>
              <a:rPr b="0" lang="en-US" sz="3200" spc="-1" strike="noStrike" baseline="30000">
                <a:solidFill>
                  <a:srgbClr val="000000"/>
                </a:solidFill>
                <a:latin typeface="Garamond"/>
              </a:rPr>
              <a:t>2</a:t>
            </a:r>
            <a:r>
              <a:rPr b="0" lang="en-US" sz="3200" spc="-1" strike="noStrike">
                <a:solidFill>
                  <a:srgbClr val="000000"/>
                </a:solidFill>
                <a:latin typeface="Garamond"/>
              </a:rPr>
              <a:t> + c</a:t>
            </a:r>
            <a:r>
              <a:rPr b="0" lang="en-US" sz="3200" spc="-1" strike="noStrike" baseline="30000">
                <a:solidFill>
                  <a:srgbClr val="000000"/>
                </a:solidFill>
                <a:latin typeface="Garamond"/>
              </a:rPr>
              <a:t>2</a:t>
            </a:r>
            <a:r>
              <a:rPr b="0" lang="en-US" sz="3200" spc="-1" strike="noStrike">
                <a:solidFill>
                  <a:srgbClr val="000000"/>
                </a:solidFill>
                <a:latin typeface="Garamond"/>
              </a:rPr>
              <a:t> – 2bc cos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b</a:t>
            </a:r>
            <a:r>
              <a:rPr b="0" lang="en-US" sz="3200" spc="-1" strike="noStrike" baseline="30000">
                <a:solidFill>
                  <a:srgbClr val="000000"/>
                </a:solidFill>
                <a:latin typeface="Garamond"/>
              </a:rPr>
              <a:t>2</a:t>
            </a:r>
            <a:r>
              <a:rPr b="0" lang="en-US" sz="3200" spc="-1" strike="noStrike">
                <a:solidFill>
                  <a:srgbClr val="000000"/>
                </a:solidFill>
                <a:latin typeface="Garamond"/>
              </a:rPr>
              <a:t> = a</a:t>
            </a:r>
            <a:r>
              <a:rPr b="0" lang="en-US" sz="3200" spc="-1" strike="noStrike" baseline="30000">
                <a:solidFill>
                  <a:srgbClr val="000000"/>
                </a:solidFill>
                <a:latin typeface="Garamond"/>
              </a:rPr>
              <a:t>2</a:t>
            </a:r>
            <a:r>
              <a:rPr b="0" lang="en-US" sz="3200" spc="-1" strike="noStrike">
                <a:solidFill>
                  <a:srgbClr val="000000"/>
                </a:solidFill>
                <a:latin typeface="Garamond"/>
              </a:rPr>
              <a:t> + c</a:t>
            </a:r>
            <a:r>
              <a:rPr b="0" lang="en-US" sz="3200" spc="-1" strike="noStrike" baseline="30000">
                <a:solidFill>
                  <a:srgbClr val="000000"/>
                </a:solidFill>
                <a:latin typeface="Garamond"/>
              </a:rPr>
              <a:t>2</a:t>
            </a:r>
            <a:r>
              <a:rPr b="0" lang="en-US" sz="3200" spc="-1" strike="noStrike">
                <a:solidFill>
                  <a:srgbClr val="000000"/>
                </a:solidFill>
                <a:latin typeface="Garamond"/>
              </a:rPr>
              <a:t> – 2ac cos B</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c</a:t>
            </a:r>
            <a:r>
              <a:rPr b="0" lang="en-US" sz="3200" spc="-1" strike="noStrike" baseline="30000">
                <a:solidFill>
                  <a:srgbClr val="000000"/>
                </a:solidFill>
                <a:latin typeface="Garamond"/>
              </a:rPr>
              <a:t>2</a:t>
            </a:r>
            <a:r>
              <a:rPr b="0" lang="en-US" sz="3200" spc="-1" strike="noStrike">
                <a:solidFill>
                  <a:srgbClr val="000000"/>
                </a:solidFill>
                <a:latin typeface="Garamond"/>
              </a:rPr>
              <a:t> = a</a:t>
            </a:r>
            <a:r>
              <a:rPr b="0" lang="en-US" sz="3200" spc="-1" strike="noStrike" baseline="30000">
                <a:solidFill>
                  <a:srgbClr val="000000"/>
                </a:solidFill>
                <a:latin typeface="Garamond"/>
              </a:rPr>
              <a:t>2</a:t>
            </a:r>
            <a:r>
              <a:rPr b="0" lang="en-US" sz="3200" spc="-1" strike="noStrike">
                <a:solidFill>
                  <a:srgbClr val="000000"/>
                </a:solidFill>
                <a:latin typeface="Garamond"/>
              </a:rPr>
              <a:t> + b</a:t>
            </a:r>
            <a:r>
              <a:rPr b="0" lang="en-US" sz="3200" spc="-1" strike="noStrike" baseline="30000">
                <a:solidFill>
                  <a:srgbClr val="000000"/>
                </a:solidFill>
                <a:latin typeface="Garamond"/>
              </a:rPr>
              <a:t>2</a:t>
            </a:r>
            <a:r>
              <a:rPr b="0" lang="en-US" sz="3200" spc="-1" strike="noStrike">
                <a:solidFill>
                  <a:srgbClr val="000000"/>
                </a:solidFill>
                <a:latin typeface="Garamond"/>
              </a:rPr>
              <a:t> – 2ab cos C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aw of Cosines:</a:t>
            </a:r>
            <a:endParaRPr b="0" lang="en-US" sz="2800" spc="-1" strike="noStrike">
              <a:solidFill>
                <a:srgbClr val="000000"/>
              </a:solidFill>
              <a:latin typeface="Garamond"/>
            </a:endParaRPr>
          </a:p>
          <a:p>
            <a:pPr lvl="2" marL="1143000" indent="-2286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f you are looking for an angle, use these:</a:t>
            </a:r>
            <a:endParaRPr b="0" lang="en-US" sz="24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000000"/>
              </a:solidFill>
              <a:latin typeface="Garamond"/>
            </a:endParaRPr>
          </a:p>
        </p:txBody>
      </p:sp>
      <p:sp>
        <p:nvSpPr>
          <p:cNvPr id="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 name="Object 4"/>
          <p:cNvGraphicFramePr/>
          <p:nvPr/>
        </p:nvGraphicFramePr>
        <p:xfrm>
          <a:off x="2514600" y="2666880"/>
          <a:ext cx="2057400" cy="701640"/>
        </p:xfrm>
        <a:graphic>
          <a:graphicData uri="http://schemas.openxmlformats.org/presentationml/2006/ole">
            <p:oleObj r:id="rId1" spid="">
              <p:embed/>
              <p:pic>
                <p:nvPicPr>
                  <p:cNvPr id="90" name="Object 4" descr=""/>
                  <p:cNvPicPr/>
                  <p:nvPr/>
                </p:nvPicPr>
                <p:blipFill>
                  <a:blip r:embed="rId2"/>
                  <a:stretch/>
                </p:blipFill>
                <p:spPr>
                  <a:xfrm>
                    <a:off x="2514600" y="2666880"/>
                    <a:ext cx="2057400" cy="701640"/>
                  </a:xfrm>
                  <a:prstGeom prst="rect">
                    <a:avLst/>
                  </a:prstGeom>
                  <a:ln w="0">
                    <a:noFill/>
                  </a:ln>
                </p:spPr>
              </p:pic>
            </p:oleObj>
          </a:graphicData>
        </a:graphic>
      </p:graphicFrame>
      <p:sp>
        <p:nvSpPr>
          <p:cNvPr id="91"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 name="Object 6"/>
          <p:cNvGraphicFramePr/>
          <p:nvPr/>
        </p:nvGraphicFramePr>
        <p:xfrm>
          <a:off x="2514600" y="3505320"/>
          <a:ext cx="2057400" cy="701640"/>
        </p:xfrm>
        <a:graphic>
          <a:graphicData uri="http://schemas.openxmlformats.org/presentationml/2006/ole">
            <p:oleObj r:id="rId3" spid="">
              <p:embed/>
              <p:pic>
                <p:nvPicPr>
                  <p:cNvPr id="93" name="Object 6" descr=""/>
                  <p:cNvPicPr/>
                  <p:nvPr/>
                </p:nvPicPr>
                <p:blipFill>
                  <a:blip r:embed="rId4"/>
                  <a:stretch/>
                </p:blipFill>
                <p:spPr>
                  <a:xfrm>
                    <a:off x="2514600" y="3505320"/>
                    <a:ext cx="2057400" cy="701640"/>
                  </a:xfrm>
                  <a:prstGeom prst="rect">
                    <a:avLst/>
                  </a:prstGeom>
                  <a:ln w="0">
                    <a:noFill/>
                  </a:ln>
                </p:spPr>
              </p:pic>
            </p:oleObj>
          </a:graphicData>
        </a:graphic>
      </p:graphicFrame>
      <p:sp>
        <p:nvSpPr>
          <p:cNvPr id="9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 name="Object 8"/>
          <p:cNvGraphicFramePr/>
          <p:nvPr/>
        </p:nvGraphicFramePr>
        <p:xfrm>
          <a:off x="2514600" y="4343400"/>
          <a:ext cx="2057400" cy="690480"/>
        </p:xfrm>
        <a:graphic>
          <a:graphicData uri="http://schemas.openxmlformats.org/presentationml/2006/ole">
            <p:oleObj r:id="rId5" spid="">
              <p:embed/>
              <p:pic>
                <p:nvPicPr>
                  <p:cNvPr id="96" name="Object 8" descr=""/>
                  <p:cNvPicPr/>
                  <p:nvPr/>
                </p:nvPicPr>
                <p:blipFill>
                  <a:blip r:embed="rId6"/>
                  <a:stretch/>
                </p:blipFill>
                <p:spPr>
                  <a:xfrm>
                    <a:off x="2514600" y="4343400"/>
                    <a:ext cx="2057400" cy="69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Solve a triangle:</a:t>
            </a:r>
            <a:br>
              <a:rPr sz="4000"/>
            </a:br>
            <a:r>
              <a:rPr b="0" lang="en-US" sz="4000" spc="-1" strike="noStrike">
                <a:solidFill>
                  <a:srgbClr val="000000"/>
                </a:solidFill>
                <a:latin typeface="Garamond"/>
              </a:rPr>
              <a:t>a = 9, b = 3 and c = 11</a:t>
            </a:r>
            <a:endParaRPr b="0" lang="en-US" sz="4000" spc="-1" strike="noStrike">
              <a:solidFill>
                <a:srgbClr val="000000"/>
              </a:solidFill>
              <a:latin typeface="Garamon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Solve this triangle:</a:t>
            </a:r>
            <a:br>
              <a:rPr sz="4000"/>
            </a:br>
            <a:r>
              <a:rPr b="0" lang="en-US" sz="4000" spc="-1" strike="noStrike">
                <a:solidFill>
                  <a:srgbClr val="000000"/>
                </a:solidFill>
                <a:latin typeface="Garamond"/>
              </a:rPr>
              <a:t>A = 108</a:t>
            </a:r>
            <a:r>
              <a:rPr b="0" lang="en-US" sz="4000" spc="-1" strike="noStrike">
                <a:solidFill>
                  <a:srgbClr val="000000"/>
                </a:solidFill>
                <a:latin typeface="Symbol"/>
                <a:ea typeface="Symbol"/>
              </a:rPr>
              <a:t></a:t>
            </a:r>
            <a:r>
              <a:rPr b="0" lang="en-US" sz="4000" spc="-1" strike="noStrike">
                <a:solidFill>
                  <a:srgbClr val="000000"/>
                </a:solidFill>
                <a:latin typeface="Garamond"/>
              </a:rPr>
              <a:t>, b = 10 and c = 6.5</a:t>
            </a:r>
            <a:endParaRPr b="0" lang="en-US" sz="4000" spc="-1" strike="noStrike">
              <a:solidFill>
                <a:srgbClr val="000000"/>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6:01:29Z</dcterms:created>
  <dc:creator>abeason</dc:creator>
  <dc:description/>
  <dc:language>en-US</dc:language>
  <cp:lastModifiedBy>abeason</cp:lastModifiedBy>
  <dcterms:modified xsi:type="dcterms:W3CDTF">2010-01-13T17:44:51Z</dcterms:modified>
  <cp:revision>14</cp:revision>
  <dc:subject/>
  <dc:title>Thursday, February 5th 2008</dc:title>
</cp:coreProperties>
</file>